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9C05-ADBA-44E5-B355-8B78EE43E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DB80-88EF-4FF8-9FDE-A3C7AD4A8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jjjjjjjjjjjjjjjjjjj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D37D-F7BD-46E6-B128-01A36915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82A8-FB9B-4AF5-851A-8C65FE2D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8C3-CBCC-4D8F-A9BC-AFF3CB88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820-3B9F-4130-8850-5269B3E7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0E47-3C04-4846-8C63-74DB08EC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D1E5-84D1-4069-BBD0-56F7B58F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BF1F-E789-451E-860D-4E4DB778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CB73-9019-44D0-A9DC-B82F0144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9D9A-9C56-468E-9122-765758D1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EA87-05E2-438C-B097-CE2E23BE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65FC-65C0-403C-8E39-A0F89221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3E19-D2CE-42B6-8BAE-A7128360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E531-707A-4963-8CD0-CD0B1F11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BBDB-4B50-454C-AEEC-D4C4B503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36B7-7163-4793-9D90-BE7B68E8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A26C-C9AD-4B85-8B1B-839F503F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F4C8-285F-4204-AEB3-F7C28DF1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062-E728-4741-B71C-5E9FF400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F7D1-8B67-4F0B-B324-802BD6C2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F9D8-7FB3-466D-AA01-FE05F49F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53A-FF1C-4B7A-9AE1-0D002BE9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E76-4065-4B51-A0D0-EF355BBF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47F5-83FF-44F2-9054-8CBAF053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A28-76EC-44C2-BE4B-B11EF7EC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9231-AA29-4615-BA25-8D80EC63F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19DF-F474-407D-B7DA-1F0EE6EF6F6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hapter 14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Reform and Renewal in the Christian Chu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-129960"/>
            <a:ext cx="79246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685800"/>
            <a:ext cx="8001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ther later denied the authority of the pope and was excommunicated and declared an outlaw by Charles V at Worms in 15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while, Ulrich Zwingli introduced the reformation in Switzer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He believed in the supremacy of Scripture, and was opposed  to indulgences, the Mass, Monasticism, and clerical celib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Protestant Thought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4582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basic theological tenets of Protestantism were set forth in the Confession of Augsburg, in which Luther provided new answers to basic theologic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III. The Social Impact of Luther’s Beliefs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-53640"/>
            <a:ext cx="74674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380880"/>
            <a:ext cx="7543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Luther’s idea attracted many preachers, and they became Protestant l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easants cited Luther’s Theology as part of their demands for economic refo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Luther did not support the peasants’ revolt; he believed in obedience to civil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Widespread peasant revolts in 1525 were brutally crushed, but some land was returned to commo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Luther’s greatest weapon was his mastery of the language, and his words were spread by the advent of printing.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Zwingli and Calvin were greatly influenced by his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The publication of Luther’s German translation of the new Testament in 1523 democratized relig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Catechisms and hymns enabled people, especially the young, to remember central points of doct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B. Luther’s Impact on women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8377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Luther gave dignity to domestic work, stressed the idea of marriage and the Christian home, ended confession, and encouraged education for gi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Luther held enlightened views on sex and marriage, although he claimed that women should be no more than efficient w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IV. Germany and the Protestant Reformation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A. The Holy Roman Empire in the 14</a:t>
            </a:r>
            <a:r>
              <a:rPr b="0" lang="en-US" sz="3600" spc="-1" strike="noStrike" baseline="30000">
                <a:solidFill>
                  <a:srgbClr val="9966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 &amp; 15</a:t>
            </a:r>
            <a:r>
              <a:rPr b="0" lang="en-US" sz="3600" spc="-1" strike="noStrike" baseline="30000">
                <a:solidFill>
                  <a:srgbClr val="9966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 Centuries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Golden Bull of 1356 gave each of the seven electors virtual sovereign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Localism and chronic disorder allowed the nobility to strengthen their territories and reduce the authority of the empe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3. The Reformation in Germany resulted in a politically weaker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B. The rise of the Habsburg dynasty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Habsburgs gave unity to much of Europe, especially with the marriage of Maximilian I of Austria and Mary of Burgundy in 14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Charles V, their grandson, inherited much of Europe and was committed to the idea of its religious and political unity.(Part of France, Belgium, Austria, Spain, Holy Roman Empi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C. The political impact of Luther’s beliefs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Protestant Reformation stirred nationalistic feeling in Germany against the wealthy Italian pap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Luther’s appeal to patriotism earned him the support of the princes, who used religion as a means of gaining more political independence and preventing the flow of German money to 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at Was a Catholic?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holic” = “Universal” with acceptance of the Pope in Rome as supreme authority of the Church (as opposed to Orthodox Chu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ope is representative of Christ on earth and has a direct link to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nerston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s – the miracle that happened with the transubstantiation of the bread and wine because of pri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e 4th Lateran Council (1215) : confession/communion at least once a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aity was supposed to know the Lord’s Prayer, Apostle’s Creed and Hail 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holic lives ordered by the sacraments of the church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ptism; communion; confirmation, penance, marriage, ordination; last ri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igion of the image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98640"/>
            <a:ext cx="79246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45720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Protestant movement proved to be a political disaster for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he dynastic Hapsburg-Valois wars advanced the cause of Protestantism and promoted the political fragmentation of Germany (Catholic of France supporting Lutheran princes against fellow Catholic, Charles V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By the Peace of Augsburg of 1555, Charles recognized Lutheranism as a legal religion and each prince was permitted to determine the religion of his territor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uius regio, eius relig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V. The Growth of the Protestant Reformation  </a:t>
            </a:r>
            <a:br>
              <a:rPr sz="3600"/>
            </a:b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1. 1555 - much of northern Europe had broken with the Roman Catholic church     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A. Calvinism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9907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vin believed that God selects certain people to do his work and that he was selected to reform the chu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Under John Calvin, Geneva became “ a city that was a church” in which the state was subordinate to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Calvin’s central ideas, expressed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Institutes of Christian Religion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e his belief in the omnipotence of God, the insignificance of humanity,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desti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4920" y="98640"/>
            <a:ext cx="76201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ere living and intolerance of dissenters characterized Calvin’s Gene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Michael Servetus was burned at the stake for denying the Christian dogma of the Trinity and rejecting child bapt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Calvinists did not view women much differently than Catholics; women were to be obedient to their husbands- and unmarried women were upsetting the natural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4920" y="98640"/>
            <a:ext cx="76201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380520"/>
            <a:ext cx="7696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The City of Geneva was model for international Protestantism, and Calvinism, with it’s emphasis on the work ethic, became the most dynamic and influential form of Protestant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Calvin served as the model for the Presbyterian church in Scotland, the Huguenot church in France, and the Puritan churches in England and New 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B. The Anabaptists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76176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otestant sect believed in adult baptism, revelation, religious tolerance, pacifism, and separation of church and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ir beliefs and practices were too radical for the times, and they were bitterly persec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Later, the Quakers, Puritans, and the Congregationalists would trace their origins to the Anabapt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C. The English Reformation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Lollards, although driven underground in the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, survived and stress the idea of a direct relationship between the individual and G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English humanist William Tyndale began printing an English translation of the New testament in 152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wealth and corruption of the clergy caused resent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Henry VIII desired a divorce from his queen, Catherine, daughter of Ferdinand and Isabella, so he could marry Anne Boley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352240" y="3675240"/>
            <a:ext cx="5356440" cy="19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786950"/>
              </a:solidFill>
              <a:latin typeface="Times New Roman"/>
            </a:endParaRPr>
          </a:p>
        </p:txBody>
      </p:sp>
      <p:pic>
        <p:nvPicPr>
          <p:cNvPr id="96" name="Picture 4" descr="Crucifixion1516"/>
          <p:cNvPicPr/>
          <p:nvPr/>
        </p:nvPicPr>
        <p:blipFill>
          <a:blip r:embed="rId1"/>
          <a:stretch/>
        </p:blipFill>
        <p:spPr>
          <a:xfrm>
            <a:off x="1022400" y="0"/>
            <a:ext cx="67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391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Pope Clement VII (who didn’t wish to admit papal error) refused to annual Henry’s marri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Archbishop Cranmer, however engineered the div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The results was the nationalization of the English church and a break with Rome as Henry used Parliament to legalize the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457200"/>
            <a:ext cx="7391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Henry needed money so he dissolved the monasteries and confiscated their lands, but this did not lead to more equal land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Some traditional Catholic practices, such as confession and the doctrine of transubstantiation, were mainta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Nationalization of the church led to changes in governmental administration, resulting in greater efficiency and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The Supremacy Act (1534) declared the king the supreme head of the Church of En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9966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Henry had six wives</a:t>
            </a:r>
            <a:br>
              <a:rPr sz="3200"/>
            </a:b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1. After Catherine he married Anne Boleyn, she failed to produce a make heir. Henry had her beheaded</a:t>
            </a:r>
            <a:br>
              <a:rPr sz="3200"/>
            </a:b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2. Next he married Jane Seymour, she gave Henry the desired son Edward, but died in childbirth</a:t>
            </a:r>
            <a:br>
              <a:rPr sz="3200"/>
            </a:b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3. Henry went on to have three more wive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4920" y="136800"/>
            <a:ext cx="76201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8960" y="304920"/>
            <a:ext cx="79246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Under Edward VI, Henry’s heir, England shifted closer to Protestant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Mary Tudor attempted to bring Catholicism back to Eng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 Under Elizabeth I a religious settlement requiring outward conformity to the Church of England was m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D. The Establishment of the Church of Scotland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land was an extreme case of clerical abuse and corru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Knox brought Calvinism to Scotland from Gen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sbyterian church became the national church of Scot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E. Protestantism in Ireland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nglish ruling class in Ireland adopted the new 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Irish people defiantly remained Catho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F. Lutheranism in Sweden, Norway, and Denmark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narchy led the religious re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ult was Lutheran state chur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VI. The Catholic &amp; Counter-Reformations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A. There were two types of reform within the Catholic Church in the 16</a:t>
            </a:r>
            <a:r>
              <a:rPr b="0" lang="en-US" sz="3600" spc="-1" strike="noStrike" baseline="30000">
                <a:solidFill>
                  <a:srgbClr val="9966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 and 17</a:t>
            </a:r>
            <a:r>
              <a:rPr b="0" lang="en-US" sz="3600" spc="-1" strike="noStrike" baseline="30000">
                <a:solidFill>
                  <a:srgbClr val="9966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tholic reformation sought to stimulate a new religious fer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unter-Reformation started in the 1540’s as a reaction to Protestantism and progressed simultaneously with the Catholic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B. The slowness of institutional refor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 often the popes were preoccupied with the politics or sensual pl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es resisted calls for formation of a general council because it would limit their auth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LastJudgementorDoom"/>
          <p:cNvPicPr/>
          <p:nvPr/>
        </p:nvPicPr>
        <p:blipFill>
          <a:blip r:embed="rId1"/>
          <a:stretch/>
        </p:blipFill>
        <p:spPr>
          <a:xfrm>
            <a:off x="914400" y="306360"/>
            <a:ext cx="647712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C. The Council of Trent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Pope Paul III called the Council of Trent (1545-156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An attempt to reconcile with the Protestants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International politics hindered the theological deb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-168480"/>
            <a:ext cx="73152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1760" y="228600"/>
            <a:ext cx="8001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Nonetheless, the principle of papal authority was maintained, considerable reform was undertaken, and the spiritual renewal of the church was be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ridentine decrees forbade the sale of indulgences and outlawed pluralism and sim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ttempts were made to curb clerical immorality and to encourage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Great emphasis was placed on pr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D. New Religious orders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4920" y="9144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Ursuline order of nuns gained enormous prestige for the education of wo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he Ursulines sought to re-Christianize society by training future wives and m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The Ursulines spread to France and Nor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212400"/>
            <a:ext cx="73915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4920" y="9144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ociety of Jesus played a strong international role in resisting Protestant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Obedience was the foundation of the Jesuit tra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With their schools, political influence, and missionary work, they brought many people into the Catholic f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E. The Sacred Congregation of the Holy Office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group established by Pope Paul III in 1542, carried out the Roman Inquisition as a way to combat he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d the power to arrest, imprison, and execute, but its influence was confined to papal terr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I. The Condition of the Church 1400-1517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The declining prestige of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he Babylonian Captivity and The Great Schism damaged the church’s presti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Secular humanists satirized and denounced moral corruption within the church.(Erasmus- called for reform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Praise of Fo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Chaucer’s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terbury Ta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Boccaccio’s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ecamer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B. Signs of Disorder in the early sixteenth century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The parish clergy brought spiritual help to the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-229320"/>
            <a:ext cx="74674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212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Critics of the church wanted moral and administrative reform in thre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rical immorality (neglect of celibacy, drunkenness, gambling) created a scan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ck of education of the clergy and law standards of ordination were condemned by Christian huma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senteeism, pluralism, (holding of several offices) and wealth of the greater clergy bore little resemblance to Christian gosp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prelates and popes of the period, often members of the nobility, lived in splendor and moral corruption(Christian church possessed a large proportion of the wealth of the countries of Europe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Members of nobility occupied the highest church pos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C. Signs of vitality in the late 15</a:t>
            </a:r>
            <a:r>
              <a:rPr b="0" lang="en-US" sz="3200" spc="-1" strike="noStrike" baseline="30000">
                <a:solidFill>
                  <a:srgbClr val="9966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 Century and early 16</a:t>
            </a:r>
            <a:r>
              <a:rPr b="0" lang="en-US" sz="3200" spc="-1" strike="noStrike" baseline="30000">
                <a:solidFill>
                  <a:srgbClr val="9966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 Century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 Europe remained deeply religious, and calls for reform testify to the spiritual vitality of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Protestants"/>
          <p:cNvPicPr/>
          <p:nvPr/>
        </p:nvPicPr>
        <p:blipFill>
          <a:blip r:embed="rId1"/>
          <a:stretch/>
        </p:blipFill>
        <p:spPr>
          <a:xfrm>
            <a:off x="228600" y="243000"/>
            <a:ext cx="861048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4920" y="167400"/>
            <a:ext cx="75438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47920" y="761760"/>
            <a:ext cx="7315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New organizations were formed to educate and minister to the p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he brethren of the Common Life in Holland lived simply and sought to make religion a personal, inner experience based on following the scrip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The Imitation of Christ by Thomas a Kempis urged Christians to seek perfection in a simple way of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Pope Julius II summoned an ecumenical(universal) council on reform in the church called the Lateran Council(1512-1527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62012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II. Martin Luther &amp; the Birth of Protestantism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tin Lut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95 Theses attacking indulgences, 15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5 Theses - German translation printed "within 15 days had been seen in every part of the country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tween 1522 and 1546: 430 editions (whole or partial) of his Biblical translations appear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17-1520: :Luther wrote c 30 tracts that were printed so that some 300,000 copies were available throughout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glish impact 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lling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wing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Luther"/>
          <p:cNvPicPr/>
          <p:nvPr/>
        </p:nvPicPr>
        <p:blipFill>
          <a:blip r:embed="rId1"/>
          <a:stretch/>
        </p:blipFill>
        <p:spPr>
          <a:xfrm>
            <a:off x="5067360" y="152280"/>
            <a:ext cx="4076640" cy="65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00"/>
                </a:solidFill>
                <a:uFillTx/>
                <a:latin typeface="Times New Roman"/>
              </a:rPr>
              <a:t>Lutheranism by 1521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irremediable sinfulness of all peop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ith not works is how you are saved (so no monasticism, no veneration of saints or their relic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belief in purga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uces 7 sacraments to 2 (only baptism and commun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ubstantiation not transubstantiation; it is the faith of the recipient not the priestly intervention that makes the sacra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mediator is necessary, though still accepts existence of pri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nial of papal infalli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reases distinctions between laity and clergy –our baptism consecrates us all without exception and makes us responsible for our fai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ponsibility of every Christian to know the B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artin Luthe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 of a mill wor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d to become a law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chi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holic’s believed in faith and deeds were the way into sal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14:32:40Z</dcterms:created>
  <dc:creator>Donovan</dc:creator>
  <dc:description/>
  <dc:language>en-US</dc:language>
  <cp:lastModifiedBy>Kuenzi</cp:lastModifiedBy>
  <dcterms:modified xsi:type="dcterms:W3CDTF">2012-10-11T01:17:11Z</dcterms:modified>
  <cp:revision>105</cp:revision>
  <dc:subject/>
  <dc:title>Chapter 14</dc:title>
</cp:coreProperties>
</file>